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9BFF-C8DD-42D2-813C-F47DD9F66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8B889-154F-49BB-8677-577ABACE9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2C44-B22E-46A1-97EF-0C0544E95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37728-436D-4FEB-9FB7-7202FE1A8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FD84-A8BC-4C7E-9D08-C72D99DFB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4CBDD-E9BF-4766-9CE8-5644AF747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FD306-83E4-4C95-BEC3-ACE72758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0CAC-6A87-44FD-A361-940504435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D800-BF97-44D2-938B-C074EED75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DC004-4193-4599-8E67-5B75F246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2B75-DD29-4907-9347-4C6C4BE4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5BE7-7464-4F04-80D6-6764C7E87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66C42-E641-4F00-82BB-A0433052F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isture in the Air and Forecasting Weather Quizz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out a piece of notebook paper and number from 10 – 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 in core bin when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15627" r="26564" b="52084"/>
          <a:stretch/>
        </p:blipFill>
        <p:spPr>
          <a:xfrm>
            <a:off x="76320" y="609480"/>
            <a:ext cx="9067680" cy="2990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28600" y="4344120"/>
            <a:ext cx="868680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. To predict areas of possible storm development, select a tool you would use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gather the necessary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Dew point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Visible satel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Infrared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14584" r="25782" b="52084"/>
          <a:stretch/>
        </p:blipFill>
        <p:spPr>
          <a:xfrm>
            <a:off x="0" y="609480"/>
            <a:ext cx="9144000" cy="307980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304920" y="3841920"/>
            <a:ext cx="883908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. You and your friends are going to an outdoor sporting event in 3 days and want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know what the weather will be like on that day.  Which tool or method would you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Temperature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Computer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Trends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15627" r="25782" b="51046"/>
          <a:stretch/>
        </p:blipFill>
        <p:spPr>
          <a:xfrm>
            <a:off x="-152280" y="838080"/>
            <a:ext cx="9296280" cy="3132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-337320" y="4344120"/>
            <a:ext cx="925344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. Which is the best map to collect data for determining areas of fog and/or sn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Left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Center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Right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0" t="14584" r="26564" b="51046"/>
          <a:stretch/>
        </p:blipFill>
        <p:spPr>
          <a:xfrm>
            <a:off x="304920" y="304920"/>
            <a:ext cx="8610480" cy="302256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28600" y="3963240"/>
            <a:ext cx="89154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. Observe the changes in temperature for the entire country.  Select a state or tw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states together where you would expect that a front is occur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Maine and New Hampsh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Kansas and Nebra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Nevada and Califor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14584" r="26564" b="52084"/>
          <a:stretch/>
        </p:blipFill>
        <p:spPr>
          <a:xfrm>
            <a:off x="0" y="457200"/>
            <a:ext cx="9144000" cy="3112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43200" y="4039560"/>
            <a:ext cx="601632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. Given the variables above, predict the wea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Storms are lik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Temperatures will dr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No change is lik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rcRect l="0" t="14584" r="26564" b="51046"/>
          <a:stretch/>
        </p:blipFill>
        <p:spPr>
          <a:xfrm>
            <a:off x="228600" y="685800"/>
            <a:ext cx="8763120" cy="30765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-127440" y="4572720"/>
            <a:ext cx="656064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. Select the data provided when using the map abo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Water vapor in 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Cloud c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Observation of conditions right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14584" r="26564" b="52084"/>
          <a:stretch/>
        </p:blipFill>
        <p:spPr>
          <a:xfrm>
            <a:off x="0" y="304920"/>
            <a:ext cx="8763120" cy="2982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920" y="4115520"/>
            <a:ext cx="853416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 The relative humidity in cube “B”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Lower than cube “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Higher than cube “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The same as cube “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3127" t="19791" r="23438" b="46877"/>
          <a:stretch/>
        </p:blipFill>
        <p:spPr>
          <a:xfrm>
            <a:off x="76320" y="457200"/>
            <a:ext cx="8915400" cy="30351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672480" y="4344120"/>
            <a:ext cx="80722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. Cube “A” is 15° warmer than cube “B”.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Which cube shows air with lower relative humidity than the other cub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Cube “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Cube “B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3127" t="19791" r="23438" b="46877"/>
          <a:stretch/>
        </p:blipFill>
        <p:spPr>
          <a:xfrm>
            <a:off x="76320" y="457200"/>
            <a:ext cx="8915400" cy="3035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98440" y="4496400"/>
            <a:ext cx="73976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Which image shows conditions for higher humid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Image “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Image “B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3906" t="20835" r="25003" b="47920"/>
          <a:stretch/>
        </p:blipFill>
        <p:spPr>
          <a:xfrm>
            <a:off x="1371600" y="0"/>
            <a:ext cx="6934320" cy="2286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rcRect l="4688" t="23960" r="25003" b="46877"/>
          <a:stretch/>
        </p:blipFill>
        <p:spPr>
          <a:xfrm>
            <a:off x="1447920" y="2286000"/>
            <a:ext cx="6858000" cy="2133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0880" y="5029560"/>
            <a:ext cx="713448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. What is the highest relative humidity for the da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92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79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84.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3127" t="20835" r="24220" b="48964"/>
          <a:stretch/>
        </p:blipFill>
        <p:spPr>
          <a:xfrm>
            <a:off x="838080" y="0"/>
            <a:ext cx="7086600" cy="2209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rcRect l="2344" t="25004" r="25003" b="46877"/>
          <a:stretch/>
        </p:blipFill>
        <p:spPr>
          <a:xfrm>
            <a:off x="762120" y="2209680"/>
            <a:ext cx="7086600" cy="2057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920" y="4877640"/>
            <a:ext cx="91440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. At what time did the highest Relative Humidity occu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7:00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8:00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9:00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3127" t="19791" r="23438" b="46877"/>
          <a:stretch/>
        </p:blipFill>
        <p:spPr>
          <a:xfrm>
            <a:off x="0" y="533520"/>
            <a:ext cx="9144000" cy="3112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-174600" y="4572720"/>
            <a:ext cx="962064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. Select the letter on the illustration that shows water droplets falling from the clou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3127" t="19791" r="24220" b="46877"/>
          <a:stretch/>
        </p:blipFill>
        <p:spPr>
          <a:xfrm>
            <a:off x="1066680" y="0"/>
            <a:ext cx="7086600" cy="2438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rcRect l="3127" t="23960" r="25003" b="46877"/>
          <a:stretch/>
        </p:blipFill>
        <p:spPr>
          <a:xfrm>
            <a:off x="1066680" y="2362320"/>
            <a:ext cx="7010640" cy="2133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3520" y="4982400"/>
            <a:ext cx="754380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. At what time did the lowest Relative Humidity occu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12:00 P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2:00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4:00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43480" y="4649040"/>
            <a:ext cx="713304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. Choose the most correct statement based upon your data abo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As relative humidity decreases, temperature decre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As temperature increases, relative humidity incre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As relative humidity increase, temperature incre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As temperature increases, relative humidity decre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3127" t="19791" r="24220" b="46877"/>
          <a:stretch/>
        </p:blipFill>
        <p:spPr>
          <a:xfrm>
            <a:off x="1066680" y="228600"/>
            <a:ext cx="7086600" cy="24382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rcRect l="3127" t="23960" r="25003" b="46877"/>
          <a:stretch/>
        </p:blipFill>
        <p:spPr>
          <a:xfrm>
            <a:off x="1066680" y="2590920"/>
            <a:ext cx="701064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12:16:50Z</dcterms:created>
  <dc:creator>skrial</dc:creator>
  <dc:description/>
  <dc:language>en-US</dc:language>
  <cp:lastModifiedBy>skrial</cp:lastModifiedBy>
  <dcterms:modified xsi:type="dcterms:W3CDTF">2010-01-12T12:17:27Z</dcterms:modified>
  <cp:revision>1</cp:revision>
  <dc:subject/>
  <dc:title>Moisture in the Air and Forecasting Weather Quizzes</dc:title>
</cp:coreProperties>
</file>